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655D-C523-4C07-99A1-EC3872A1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6C68-C041-4972-A59E-9637D6CC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8A4E-EFB4-461A-9BF1-6C3B8BC9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CB39-F91B-4B19-BBDE-A0FC1FF5F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FF6D-D01F-4EF5-9888-482D856D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6592-920A-4C1E-9AEC-CF2BB63C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D1A9-75C7-4978-B834-82FB64D3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EE72-D15B-4F5F-926B-F8AE8BBC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EA88-53B3-4BA8-A992-62BF7443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BC74-C493-4ACD-8F33-4BE7690E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4DEB-DA04-4B1F-8162-0349BBE9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8AC5-9FC7-459E-9B83-B1105836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PPFAX at IETF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4A50-261E-4A22-A9A9-6AC36A70A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s of IPP F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ed by Lloyd McIntyre, Xero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the Internet WG meeting 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TF51, August 5-10, 2001, Lon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08CD-5684-4FD1-AAB0-F02FEA50B1E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P FAX Time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ETF discussions summer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er Working Group standard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ed September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lly called “High Quality Document Distribution” (QUALDO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amed to IPP FAX to help 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 completion: this Sum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ke Off: this F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5D4B-3330-4557-A68A-EB712FE21AF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PP FA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mediate, reliable, secure Internet transfer of high-quality Universal Image Format (UIF) (enhanced TIFF/FX)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the standards track Internet Printing Protocol (IPP/1.1), RFC 2911 and 2910, September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Printer vendors currently shipping I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ization: document charset and language ident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mediate capability query, prompt job accept response, and subsequent printing completed no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P is layered on HTTP/1.1 sessions with default port 6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Transport Layer Security (TLS, RFC 22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C595-3798-4B54-8397-82D589B2D87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IF (Universal Image Forma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 UIF conformance requirements for each TIFF/FX Profile: S, F, J, C, L, 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, 300, 600 DPI REQUIRED for B/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, 300 DPI REQUIRED for 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lution not constr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Width not constr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ME type - self describing subset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/image; application=uif; profile=s,f,j,c,l,mcfj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5FFB-C49A-4459-9B74-9BEEA332C44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P FAX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-Printer-Attributes request/response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for profiles and CONNEG options suppo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 supported, media loaded, resolution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-Job operation to submit UIF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-to-end document transmission with prompt response: all data received, all attributes valid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AL off-ramp support (mailto:, fax: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PGET Event Not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s for each page and last page pr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ther Sender polls or Receiver sends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: uses IPP/1.1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0818-0262-4C94-BE39-EF6F1765259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P FAX Specifications, 7/27/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versal Image Format (UI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tp://ftp.pwg.org/pub/pwg/QUALDOCS/uif-spec-06.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P FAX Protocol (IF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tp://ftp.pwg.org/pub/pwg/QUALDOCS/ifx-spec-06.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P/1.1 Model and Semantics (RFC 291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P/1.1 Encoding and Transport (RFC 29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P Event Notifications and Sub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raft-ietf-ipp-not-spec-06.t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PGET Delivery Method for Event Not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raft-ietf-ipp-notify-get-04.t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B29A-603E-4D1F-8193-A250ACD0B5C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PFAX cont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PFAX Web Page:  http://www.pwg.org/qualdocs/index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end to ifx@pwg.org mailing list, you must first subscrib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ubscribe to the ifx@pwg.org, send mail to majordomo@pwg.or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leave the subject line bl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put the following two lines in the message bo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cribe if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11D4-45D6-4097-92DC-1D627C4CDBD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6,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31T18:26:36Z</dcterms:created>
  <dc:creator>Thomas N. Hastings</dc:creator>
  <dc:description/>
  <dc:language>en-US</dc:language>
  <cp:lastModifiedBy>Thomas N. Hastings</cp:lastModifiedBy>
  <dcterms:modified xsi:type="dcterms:W3CDTF">2001-08-01T00:50:31Z</dcterms:modified>
  <cp:revision>3</cp:revision>
  <dc:subject/>
  <dc:title>Status of IPP FAX</dc:title>
</cp:coreProperties>
</file>