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204075" cy="9490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6D3-C136-41AE-8768-5A498A3F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047-E1B5-496E-83C0-31E4F1EB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0B9-AD95-4C47-B407-E2B9BC1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4E6-2665-4A98-857C-B7A7EEE0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A00-D8A4-4054-852A-5A065A3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B98-D829-4E6D-B476-DAFCEEF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2C9-BBF0-4553-8E7B-FE3A2A6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A9E-2CD7-42E5-A923-2E634D8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501-C037-4CFA-94D6-DDE3289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3B1-613F-4E27-BA24-B28057C8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F62-4B61-4792-AB7C-261409A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D35-9980-48AD-9812-2EC1E10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PFAX at IET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6C6B-1E78-4577-933D-DA4FB8A5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IPP F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Lloyd McIntyre, Xer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Internet FAX WG meeting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51, August 5-10, 2001,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FC9-E979-4BC3-9D53-2941780EC10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IETF discussions summ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er Working Group standard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called “High Quality Document Distribution” (QUALDO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d to IPP FAX to help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PWG standard: October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ke Off: April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d Final PWG standard:  Jul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726-A209-43E6-9D77-BC310DEF5B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PP FA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, reliable, secure Internet transfer of high-quality Universal Image Format (UIF) (enhanced TIFF/FX) documents between a Sender and a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he standards track Internet Printing Protocol (IPP/1.1), RFC 2911 and 2910,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inter vendors currently shipping I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ization: document charset and language 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capability query, prompt job accept response, and subsequent printing completed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P is layered on HTTP/1.1 sessions with default port 6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ansport Layer Security (TLS, RFC 22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852-E4DE-4525-91C9-779203A7F3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IF (Universal Image Form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UIF conformance requirements for each TIFF/FX Profile: S, F, J, C, L, 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, 300, 600 DPI REQUIRED for B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, 300 DPI REQUIRED fo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, 300, 400 DPI REQUIRED for profile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not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Width not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E type - self describing subse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ff/image; application=uif; profile=s,f,j,c,l,mcfj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26F-2A8C-4C61-B833-46068C4232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IF S and C Pro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&amp; (image-file-structure=TIFF-mini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RC-mode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mage-coding=M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=B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pi=[200,300,600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pi-xyratio=1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57600" y="14475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&amp; (image-file-structure=TIFF-limited-ui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RC-mode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=f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mage-coding=JP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mage-coding-constraint=JPEG-T4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-subsampling="4:1:1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-levels&lt;=167772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-space=CIELA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lor-illuminant=D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L-min&gt;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L-max&lt;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a-min&gt;=-8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a-max&lt;=8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b-min&gt;=-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IELAB-b-max&lt;=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pi=[200,30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pi-xyratio=1)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037-3CD2-4280-8657-F601D7444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-Printer-Attributes request/response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for profiles and CONNEG options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supported, media loaded, resolu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-Job operation to submit UIF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document transmission with prompt response: all data received, all attributes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GET Even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for each page and last page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Sender polls or Receiver sends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: uses IPP/1.1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F73-8626-4643-A063-112D41D688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Specifications, 7/27/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al Image Format (U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://ftp.pwg.org/pub/pwg/QUALDOCS/uif-spec-06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 FAX Protocol (IF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://ftp.pwg.org/pub/pwg/QUALDOCS/ifx-spec-06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/1.1 Model and Semantics (RFC 29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/1.1 Encoding and Transport (RFC 29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 Event Notifications and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ft-ietf-ipp-not-spec-0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GET Delivery Method for Even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ft-ietf-ipp-notify-get-04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1AA-19FF-4F71-A01B-1E11C234B3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FAX cont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PFAX Web Page:  http://www.pwg.org/qualdocs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o ifx@pwg.org mailing list, you must first subscri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bscribe to the ifx@pwg.org, send mail to majordomo@pwg.or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eave the subject line bl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ut the following two lines in the message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 i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B16-6D2A-4C6D-BE7C-91C4D16803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18:26:36Z</dcterms:created>
  <dc:creator>Thomas N. Hastings</dc:creator>
  <dc:description/>
  <dc:language>en-US</dc:language>
  <cp:lastModifiedBy>Thomas N. Hastings</cp:lastModifiedBy>
  <dcterms:modified xsi:type="dcterms:W3CDTF">2001-08-03T21:01:44Z</dcterms:modified>
  <cp:revision>8</cp:revision>
  <dc:subject/>
  <dc:title>Status of IPP FAX</dc:title>
</cp:coreProperties>
</file>